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8.png" ContentType="image/png"/>
  <Override PartName="/ppt/media/image14.jpeg" ContentType="image/jpeg"/>
  <Override PartName="/ppt/media/image7.jpeg" ContentType="image/jpeg"/>
  <Override PartName="/ppt/media/image11.gif" ContentType="image/gif"/>
  <Override PartName="/ppt/media/image6.gif" ContentType="image/gif"/>
  <Override PartName="/ppt/media/image5.jpeg" ContentType="image/jpeg"/>
  <Override PartName="/ppt/media/image13.jpeg" ContentType="image/jpeg"/>
  <Override PartName="/ppt/media/image23.gif" ContentType="image/gif"/>
  <Override PartName="/ppt/media/image1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16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2640" y="667800"/>
            <a:ext cx="456084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7AFC0-0D35-4860-B640-CECC60B43C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2B4C3-CA9F-4B21-80FA-9C4E691AD5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3DEF2-5729-4DD6-B0A8-6E1D9E9E50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1BB2A-4B6A-4C1F-A919-4948D6DA19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EE378-5BF3-49D7-AECF-7D4D63BDBB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66D58-82BB-4EB3-B5CC-EEDF668A65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00C06-1B22-4A6A-9DC6-AB9EFD612A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A12B7-AF8D-4492-8B62-539010D3CD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443AC-5F70-442A-A30D-CE9B3FB278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BAFE5-8D67-482F-B21F-9AE5E0C775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9EE50-0C28-44D2-A07B-4E52D46A91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9D179-DB5A-47E7-A815-BC3172F1E0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D4FF2-2B01-44E5-8750-B43CF84512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CFA74-ADE8-4EC2-9514-2432A888BC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4FB20-5B39-43F4-95BA-4507D6953A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6FF65-3420-4A6C-A833-7DF9453FF5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BCFA0-F984-4190-8704-9C41E64D53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11201-8A83-45A3-8BA2-7015D88AD0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3BAA7-F5D5-4D45-850D-51C13FEDAF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CADE1-8695-44CA-8E71-69F38D8EE9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E2D93-25EF-4BA3-9B76-B6EA2DAA82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90B67-85E5-43CC-815D-95D97CFBD4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D5055-0FF9-4A73-AF41-F60170A887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6C3-7729-4406-A4D2-BF5352FE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0DA-69CE-4E84-8121-A4CDA186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347-BD44-4ACB-8045-456912E2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B6B-9DE8-4D79-8AF5-3534161A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247A-143A-472D-84D9-205CB2FE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842B-313F-4E39-A811-6A1366B5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B7C4-2CBE-413E-B99C-57643BF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65D9-F145-43CB-8E55-CCDC27A1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AFAF-F7F1-4261-896A-35C4A2B0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33FC-EF50-433F-AFA8-E0D962CA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B17E-B6E6-4439-B65B-3726937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927-1EE0-4028-BCB4-94A6986C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C834-F242-405D-ADB0-F58B8C91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3EDD-A659-42EC-B34D-923B1775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9F81-0A92-4D8C-9AD6-01A74BB4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BB64-5FC9-4A5C-B997-29E491DC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76EB-376A-4EB9-80FB-94E05834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631-618E-4729-84AD-159CD156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682-620B-4B99-83B4-5998615A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BC5-3AB8-4374-903F-9CF264C3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123-4346-484D-B975-09371C6F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9C5-0311-452B-AD3C-51CA982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47F-2B46-499B-AC31-5BD2887D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A48-EBA0-4204-BA7C-75B2A84D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bcbcbc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81C78B-896C-4D34-8C13-75613F6ECF47}" type="slidenum">
              <a:rPr b="1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bcbcbc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42B38C-EDF0-4375-919C-F9549CD62D9E}" type="slidenum">
              <a:rPr b="1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4" descr=""/>
          <p:cNvPicPr/>
          <p:nvPr/>
        </p:nvPicPr>
        <p:blipFill>
          <a:blip r:embed="rId1"/>
          <a:stretch/>
        </p:blipFill>
        <p:spPr>
          <a:xfrm>
            <a:off x="60480" y="139680"/>
            <a:ext cx="9802800" cy="431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E01644_"/>
          <p:cNvPicPr/>
          <p:nvPr/>
        </p:nvPicPr>
        <p:blipFill>
          <a:blip r:embed="rId2"/>
          <a:stretch/>
        </p:blipFill>
        <p:spPr>
          <a:xfrm>
            <a:off x="4932360" y="3429000"/>
            <a:ext cx="3890880" cy="3122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489960" y="3444840"/>
            <a:ext cx="45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omic Sans MS"/>
              </a:rPr>
              <a:t>Внеклассное мероприятие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omic Sans MS"/>
              </a:rPr>
              <a:t>для начальных класс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479736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ыполнила: Фазлиева Гульнара Музиповна,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читель начальных класс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БОУ «СОШ № 3 г Мамадыш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f3fa"/>
            </a:gs>
            <a:gs pos="50000">
              <a:srgbClr val="f8b9b2"/>
            </a:gs>
            <a:gs pos="100000">
              <a:srgbClr val="9ef3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57360" y="428760"/>
            <a:ext cx="6351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476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Гульнара Музиповна\Desktop\коррупция рисунки\коррупция7.jpg"/>
          <p:cNvPicPr/>
          <p:nvPr/>
        </p:nvPicPr>
        <p:blipFill>
          <a:blip r:embed="rId2"/>
          <a:stretch/>
        </p:blipFill>
        <p:spPr>
          <a:xfrm>
            <a:off x="971640" y="587520"/>
            <a:ext cx="7488000" cy="586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57200" y="1981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30f01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165640" y="955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1332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Users\Гульнара Музиповна\Desktop\коррупция рисунки\кор0.gif"/>
          <p:cNvPicPr/>
          <p:nvPr/>
        </p:nvPicPr>
        <p:blipFill>
          <a:blip r:embed="rId2"/>
          <a:stretch/>
        </p:blipFill>
        <p:spPr>
          <a:xfrm>
            <a:off x="684360" y="620640"/>
            <a:ext cx="7991280" cy="5329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d6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7129440" cy="293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Гульнара Музиповна\Desktop\коррупция рисунки\кор9.jpg"/>
          <p:cNvPicPr/>
          <p:nvPr/>
        </p:nvPicPr>
        <p:blipFill>
          <a:blip r:embed="rId2"/>
          <a:stretch/>
        </p:blipFill>
        <p:spPr>
          <a:xfrm>
            <a:off x="900000" y="1484280"/>
            <a:ext cx="734400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11280" y="20484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ррупция - это противозаконно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d5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125800" cy="12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908000" y="1844640"/>
            <a:ext cx="603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б не было несчастья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омните, друзья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 коррупция и взятк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о плохо, «стоп», нельзя 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4" descr="C:\Users\Гульнара Музиповна\Desktop\коррупция рисунки\кор 9.jpg"/>
          <p:cNvPicPr/>
          <p:nvPr/>
        </p:nvPicPr>
        <p:blipFill>
          <a:blip r:embed="rId2"/>
          <a:stretch/>
        </p:blipFill>
        <p:spPr>
          <a:xfrm>
            <a:off x="2124000" y="1619280"/>
            <a:ext cx="55436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85800" y="150840"/>
            <a:ext cx="68706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3300"/>
                </a:solidFill>
                <a:uFillTx/>
                <a:latin typeface="Comic Sans MS"/>
              </a:rPr>
              <a:t>Доктор Айболит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39640" y="185904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7010280" y="152280"/>
            <a:ext cx="1866960" cy="154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Гульнара Музиповна\Desktop\коррупция рисунки\доктор айболит.jpg"/>
          <p:cNvPicPr/>
          <p:nvPr/>
        </p:nvPicPr>
        <p:blipFill>
          <a:blip r:embed="rId2"/>
          <a:stretch/>
        </p:blipFill>
        <p:spPr>
          <a:xfrm>
            <a:off x="1692360" y="982800"/>
            <a:ext cx="4784760" cy="5287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936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676520" y="289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43000" y="155520"/>
            <a:ext cx="66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i="1" lang="ru-RU" sz="3200" spc="-1" strike="noStrike">
                <a:solidFill>
                  <a:srgbClr val="cc3300"/>
                </a:solidFill>
                <a:latin typeface="Comic Sans MS"/>
              </a:rPr>
              <a:t>Коррупция - взятк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16" descr="C:\Users\Гульнара Музиповна\Desktop\коррупция рисунки\коррупция6.jpg"/>
          <p:cNvPicPr/>
          <p:nvPr/>
        </p:nvPicPr>
        <p:blipFill>
          <a:blip r:embed="rId2"/>
          <a:stretch/>
        </p:blipFill>
        <p:spPr>
          <a:xfrm>
            <a:off x="3057480" y="1341360"/>
            <a:ext cx="3286080" cy="4934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6877080" y="3716280"/>
            <a:ext cx="1322280" cy="95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62064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Users\Гульнара Музиповна\Desktop\коррупция рисунки\теремок.jpg"/>
          <p:cNvPicPr/>
          <p:nvPr/>
        </p:nvPicPr>
        <p:blipFill>
          <a:blip r:embed="rId6"/>
          <a:stretch/>
        </p:blipFill>
        <p:spPr>
          <a:xfrm>
            <a:off x="299880" y="620640"/>
            <a:ext cx="84488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914400" y="189000"/>
            <a:ext cx="57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C:\Users\Гульнара Музиповна\Desktop\коррупция рисунки\теремок1.jpg"/>
          <p:cNvPicPr/>
          <p:nvPr/>
        </p:nvPicPr>
        <p:blipFill>
          <a:blip r:embed="rId3"/>
          <a:stretch/>
        </p:blipFill>
        <p:spPr>
          <a:xfrm>
            <a:off x="476280" y="252360"/>
            <a:ext cx="5334120" cy="39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:\Users\Гульнара Музиповна\Desktop\коррупция рисунки\лягушка.png"/>
          <p:cNvPicPr/>
          <p:nvPr/>
        </p:nvPicPr>
        <p:blipFill>
          <a:blip r:embed="rId4"/>
          <a:stretch/>
        </p:blipFill>
        <p:spPr>
          <a:xfrm>
            <a:off x="5783400" y="3933720"/>
            <a:ext cx="196992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7" descr="C:\Users\Гульнара Музиповна\Desktop\коррупция рисунки\теремок2.png"/>
          <p:cNvPicPr/>
          <p:nvPr/>
        </p:nvPicPr>
        <p:blipFill>
          <a:blip r:embed="rId2"/>
          <a:stretch/>
        </p:blipFill>
        <p:spPr>
          <a:xfrm>
            <a:off x="1943280" y="254160"/>
            <a:ext cx="5257800" cy="6349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04640" y="25416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едведь - рэкитё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830520" y="503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1476360" y="6021360"/>
            <a:ext cx="712944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C:\Users\Гульнара Музиповна\Desktop\коррупция рисунки\емеля 3.jpg"/>
          <p:cNvPicPr/>
          <p:nvPr/>
        </p:nvPicPr>
        <p:blipFill>
          <a:blip r:embed="rId3"/>
          <a:stretch/>
        </p:blipFill>
        <p:spPr>
          <a:xfrm>
            <a:off x="1573200" y="824040"/>
            <a:ext cx="6045120" cy="60451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1692360" y="1760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По щучьему веленью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6a3"/>
            </a:gs>
            <a:gs pos="100000">
              <a:srgbClr val="d7f8f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6"/>
          <p:cNvSpPr/>
          <p:nvPr/>
        </p:nvSpPr>
        <p:spPr>
          <a:xfrm>
            <a:off x="1619280" y="2997360"/>
            <a:ext cx="1152360" cy="144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619280" y="3357720"/>
            <a:ext cx="1152360" cy="144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1619280" y="3716280"/>
            <a:ext cx="1152360" cy="180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435640" y="2276640"/>
            <a:ext cx="1440" cy="72072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5424480" y="3284640"/>
            <a:ext cx="23760" cy="72072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8" descr="C:\Users\Гульнара Музиповна\Desktop\коррупция рисунки\емеля1.jpg"/>
          <p:cNvPicPr/>
          <p:nvPr/>
        </p:nvPicPr>
        <p:blipFill>
          <a:blip r:embed="rId1"/>
          <a:stretch/>
        </p:blipFill>
        <p:spPr>
          <a:xfrm>
            <a:off x="1211400" y="728640"/>
            <a:ext cx="6960960" cy="5221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0:17:09Z</dcterms:created>
  <dc:creator>ermolina.ib</dc:creator>
  <dc:description/>
  <dc:language>en-US</dc:language>
  <cp:lastModifiedBy>Гульнара Музиповна</cp:lastModifiedBy>
  <dcterms:modified xsi:type="dcterms:W3CDTF">2013-11-24T08:01:01Z</dcterms:modified>
  <cp:revision>82</cp:revision>
  <dc:subject/>
  <dc:title>Презентация PowerPoint</dc:title>
</cp:coreProperties>
</file>